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B62C-0234-41F1-9703-2AA225B1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B078-8CCB-47A5-BFBB-A0113F99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1286-1CB2-40D8-8CCC-593114AC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784E-D57B-4B4A-AFFF-6B1D75FF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C5E4-69A2-4F84-B4F6-697D022D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2352-9213-44A4-8C29-1503AB74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3DE9-C39C-443F-AB70-E129D27B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B41C-786A-4023-8146-33824035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4EA4-825F-48A7-8A40-A2869493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1464-2AB3-4D72-9E44-8864B5DD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5168-E05A-4A58-B10C-24D91EE1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560D-4031-43CA-B1F4-50D74711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AEE4-7C96-4BBF-B51F-703E8E9D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6CB3-6CEA-4BF5-BBFE-361081E0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9EB3-4F36-47C8-A6AF-8C868A75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ABEB-E99B-4068-A239-163AE478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9EDB-1DC9-41C0-A027-3EDCCECE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E207-5366-4C86-A387-AEE3419E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A090-69CC-4BE3-8111-A3CB9B66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9088-455F-43D0-9993-0BE824DA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EEB6-1A55-46BC-9FCD-3FA3B110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D788-6322-469E-99B7-798C40DC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B87A-1457-4FEE-8831-05DB4891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B0E9-AFD7-4505-A3B6-95142321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AC9C-EEED-42A0-88EA-2C381F85C27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6838-504A-44F9-A7D8-9EB322B45FE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Genetics and Heredity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Monohybrid Cross: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752480" y="43434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b5249"/>
                </a:solidFill>
                <a:latin typeface="Tahoma"/>
              </a:rPr>
              <a:t>a cross that shows the possible offspring </a:t>
            </a:r>
            <a:endParaRPr b="0" lang="en-US" sz="2500" spc="-1" strike="noStrike">
              <a:solidFill>
                <a:srgbClr val="5b5249"/>
              </a:solidFill>
              <a:latin typeface="Tahom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b5249"/>
                </a:solidFill>
                <a:latin typeface="Tahoma"/>
              </a:rPr>
              <a:t>for one trait</a:t>
            </a:r>
            <a:endParaRPr b="0" lang="en-US" sz="25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2286000" y="1676520"/>
            <a:ext cx="4191120" cy="3352680"/>
            <a:chOff x="2286000" y="1676520"/>
            <a:chExt cx="4191120" cy="3352680"/>
          </a:xfrm>
        </p:grpSpPr>
        <p:grpSp>
          <p:nvGrpSpPr>
            <p:cNvPr id="131" name=""/>
            <p:cNvGrpSpPr/>
            <p:nvPr/>
          </p:nvGrpSpPr>
          <p:grpSpPr>
            <a:xfrm>
              <a:off x="2286000" y="1676520"/>
              <a:ext cx="4191120" cy="3352680"/>
              <a:chOff x="2286000" y="1676520"/>
              <a:chExt cx="4191120" cy="3352680"/>
            </a:xfrm>
          </p:grpSpPr>
          <p:sp>
            <p:nvSpPr>
              <p:cNvPr id="132" name=""/>
              <p:cNvSpPr/>
              <p:nvPr/>
            </p:nvSpPr>
            <p:spPr>
              <a:xfrm>
                <a:off x="2286000" y="1676520"/>
                <a:ext cx="4191120" cy="3352680"/>
              </a:xfrm>
              <a:prstGeom prst="rect">
                <a:avLst/>
              </a:prstGeom>
              <a:solidFill>
                <a:srgbClr val="c9ddf1"/>
              </a:solidFill>
              <a:ln w="2232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286000" y="3352680"/>
                <a:ext cx="4191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4352760" y="1676520"/>
              <a:ext cx="0" cy="33526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048120" y="990720"/>
            <a:ext cx="2361960" cy="609840"/>
            <a:chOff x="3048120" y="990720"/>
            <a:chExt cx="2361960" cy="609840"/>
          </a:xfrm>
        </p:grpSpPr>
        <p:sp>
          <p:nvSpPr>
            <p:cNvPr id="136" name=""/>
            <p:cNvSpPr/>
            <p:nvPr/>
          </p:nvSpPr>
          <p:spPr>
            <a:xfrm>
              <a:off x="3048120" y="99072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F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29200" y="99072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F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676520" y="2209680"/>
            <a:ext cx="380880" cy="2210040"/>
            <a:chOff x="1676520" y="2209680"/>
            <a:chExt cx="380880" cy="2210040"/>
          </a:xfrm>
        </p:grpSpPr>
        <p:sp>
          <p:nvSpPr>
            <p:cNvPr id="139" name=""/>
            <p:cNvSpPr/>
            <p:nvPr/>
          </p:nvSpPr>
          <p:spPr>
            <a:xfrm>
              <a:off x="1676520" y="220968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f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6520" y="380988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f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971800" y="213372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Ff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22096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Ff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38098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Ff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38098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Ff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5562720"/>
            <a:ext cx="7086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Probability of having a child with freckles?  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609588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100%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2286000" y="1676520"/>
            <a:ext cx="4191120" cy="3352680"/>
            <a:chOff x="2286000" y="1676520"/>
            <a:chExt cx="4191120" cy="3352680"/>
          </a:xfrm>
        </p:grpSpPr>
        <p:grpSp>
          <p:nvGrpSpPr>
            <p:cNvPr id="148" name=""/>
            <p:cNvGrpSpPr/>
            <p:nvPr/>
          </p:nvGrpSpPr>
          <p:grpSpPr>
            <a:xfrm>
              <a:off x="2286000" y="1676520"/>
              <a:ext cx="4191120" cy="3352680"/>
              <a:chOff x="2286000" y="1676520"/>
              <a:chExt cx="4191120" cy="3352680"/>
            </a:xfrm>
          </p:grpSpPr>
          <p:sp>
            <p:nvSpPr>
              <p:cNvPr id="149" name=""/>
              <p:cNvSpPr/>
              <p:nvPr/>
            </p:nvSpPr>
            <p:spPr>
              <a:xfrm>
                <a:off x="2286000" y="1676520"/>
                <a:ext cx="4191120" cy="3352680"/>
              </a:xfrm>
              <a:prstGeom prst="rect">
                <a:avLst/>
              </a:prstGeom>
              <a:solidFill>
                <a:srgbClr val="c9ddf1"/>
              </a:solidFill>
              <a:ln w="2232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286000" y="3352680"/>
                <a:ext cx="4191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4352760" y="1676520"/>
              <a:ext cx="0" cy="33526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048120" y="990720"/>
            <a:ext cx="2361960" cy="609840"/>
            <a:chOff x="3048120" y="990720"/>
            <a:chExt cx="2361960" cy="609840"/>
          </a:xfrm>
        </p:grpSpPr>
        <p:sp>
          <p:nvSpPr>
            <p:cNvPr id="153" name=""/>
            <p:cNvSpPr/>
            <p:nvPr/>
          </p:nvSpPr>
          <p:spPr>
            <a:xfrm>
              <a:off x="3048120" y="99072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F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29200" y="99072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F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676520" y="2209680"/>
            <a:ext cx="380880" cy="2210040"/>
            <a:chOff x="1676520" y="2209680"/>
            <a:chExt cx="380880" cy="2210040"/>
          </a:xfrm>
        </p:grpSpPr>
        <p:sp>
          <p:nvSpPr>
            <p:cNvPr id="156" name=""/>
            <p:cNvSpPr/>
            <p:nvPr/>
          </p:nvSpPr>
          <p:spPr>
            <a:xfrm>
              <a:off x="1676520" y="220968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F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76520" y="380988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f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971800" y="213372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FF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22096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FF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38098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Ff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38098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Ff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533412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Genotypic Ratio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533412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Phenotypic Ratio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5943600"/>
            <a:ext cx="236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2:2:0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5943600"/>
            <a:ext cx="13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4:0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286000" y="1447920"/>
            <a:ext cx="4191120" cy="3352680"/>
            <a:chOff x="2286000" y="1447920"/>
            <a:chExt cx="4191120" cy="3352680"/>
          </a:xfrm>
        </p:grpSpPr>
        <p:grpSp>
          <p:nvGrpSpPr>
            <p:cNvPr id="167" name=""/>
            <p:cNvGrpSpPr/>
            <p:nvPr/>
          </p:nvGrpSpPr>
          <p:grpSpPr>
            <a:xfrm>
              <a:off x="2286000" y="1447920"/>
              <a:ext cx="4191120" cy="3352680"/>
              <a:chOff x="2286000" y="1447920"/>
              <a:chExt cx="4191120" cy="3352680"/>
            </a:xfrm>
          </p:grpSpPr>
          <p:sp>
            <p:nvSpPr>
              <p:cNvPr id="168" name=""/>
              <p:cNvSpPr/>
              <p:nvPr/>
            </p:nvSpPr>
            <p:spPr>
              <a:xfrm>
                <a:off x="2286000" y="1447920"/>
                <a:ext cx="4191120" cy="3352680"/>
              </a:xfrm>
              <a:prstGeom prst="rect">
                <a:avLst/>
              </a:prstGeom>
              <a:solidFill>
                <a:srgbClr val="c9ddf1"/>
              </a:solidFill>
              <a:ln w="2232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286000" y="3124080"/>
                <a:ext cx="4191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4352760" y="1447920"/>
              <a:ext cx="0" cy="33526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048120" y="762120"/>
            <a:ext cx="2361960" cy="609840"/>
            <a:chOff x="3048120" y="762120"/>
            <a:chExt cx="2361960" cy="609840"/>
          </a:xfrm>
        </p:grpSpPr>
        <p:sp>
          <p:nvSpPr>
            <p:cNvPr id="172" name=""/>
            <p:cNvSpPr/>
            <p:nvPr/>
          </p:nvSpPr>
          <p:spPr>
            <a:xfrm>
              <a:off x="3048120" y="76212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f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29200" y="76212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f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676520" y="1981080"/>
            <a:ext cx="380880" cy="2210040"/>
            <a:chOff x="1676520" y="1981080"/>
            <a:chExt cx="380880" cy="2210040"/>
          </a:xfrm>
        </p:grpSpPr>
        <p:sp>
          <p:nvSpPr>
            <p:cNvPr id="175" name=""/>
            <p:cNvSpPr/>
            <p:nvPr/>
          </p:nvSpPr>
          <p:spPr>
            <a:xfrm>
              <a:off x="1676520" y="198108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F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76520" y="358128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f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971800" y="190512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Ff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29200" y="19810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Ff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35812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ff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29200" y="35812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ff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4937040"/>
            <a:ext cx="274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Pure Dominant: 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556272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Pure Recessive: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624852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Hybrid: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91120" y="493704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0%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91120" y="556272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50%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1120" y="624852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50%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Dihybrid Cross: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752480" y="43434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b5249"/>
                </a:solidFill>
                <a:latin typeface="Tahoma"/>
              </a:rPr>
              <a:t>a cross that shows the possible offspring </a:t>
            </a:r>
            <a:endParaRPr b="0" lang="en-US" sz="2500" spc="-1" strike="noStrike">
              <a:solidFill>
                <a:srgbClr val="5b5249"/>
              </a:solidFill>
              <a:latin typeface="Tahom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b5249"/>
                </a:solidFill>
                <a:latin typeface="Tahoma"/>
              </a:rPr>
              <a:t>for two traits</a:t>
            </a:r>
            <a:endParaRPr b="0" lang="en-US" sz="2500" spc="-1" strike="noStrike">
              <a:solidFill>
                <a:srgbClr val="5b5249"/>
              </a:solidFill>
              <a:latin typeface="Tahom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2057400" y="1752480"/>
            <a:ext cx="5562720" cy="4343400"/>
            <a:chOff x="2057400" y="1752480"/>
            <a:chExt cx="5562720" cy="4343400"/>
          </a:xfrm>
        </p:grpSpPr>
        <p:sp>
          <p:nvSpPr>
            <p:cNvPr id="190" name=""/>
            <p:cNvSpPr/>
            <p:nvPr/>
          </p:nvSpPr>
          <p:spPr>
            <a:xfrm>
              <a:off x="2057400" y="1752480"/>
              <a:ext cx="5562720" cy="4343400"/>
            </a:xfrm>
            <a:prstGeom prst="rect">
              <a:avLst/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57400" y="3885840"/>
              <a:ext cx="55627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7400" y="2819160"/>
              <a:ext cx="55627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57400" y="5028840"/>
              <a:ext cx="55627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1752480"/>
              <a:ext cx="0" cy="4343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48520" y="1752480"/>
              <a:ext cx="0" cy="4343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76920" y="1752480"/>
              <a:ext cx="0" cy="4343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2438280" y="1219320"/>
            <a:ext cx="533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1265400"/>
            <a:ext cx="609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00200" y="5334120"/>
            <a:ext cx="380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4267080"/>
            <a:ext cx="533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23880" y="312408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2057400"/>
            <a:ext cx="533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1265400"/>
            <a:ext cx="380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121932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62320" y="2057400"/>
            <a:ext cx="8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05520" y="2057400"/>
            <a:ext cx="8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77120" y="2057400"/>
            <a:ext cx="8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320040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320040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1480" y="320040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3200400"/>
            <a:ext cx="8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26708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3920" y="4267080"/>
            <a:ext cx="8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1480" y="426708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53080" y="426708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8280" y="533412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9880" y="533412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5334120"/>
            <a:ext cx="8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29400" y="5334120"/>
            <a:ext cx="68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9880" y="205740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11732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38480" y="1162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4356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24800" y="1243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85880" y="2043000"/>
            <a:ext cx="37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52760" y="3095640"/>
            <a:ext cx="37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233960"/>
            <a:ext cx="37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85880" y="5300640"/>
            <a:ext cx="37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57200" y="12193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ahoma"/>
              </a:rPr>
              <a:t>Child with dimples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724280"/>
            <a:ext cx="3276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ahoma"/>
              </a:rPr>
              <a:t>Child with dimples      and freckles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2743200"/>
            <a:ext cx="281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ahoma"/>
              </a:rPr>
              <a:t>Child with freckles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038480" y="1447920"/>
            <a:ext cx="5105160" cy="4140000"/>
            <a:chOff x="4038480" y="1447920"/>
            <a:chExt cx="5105160" cy="4140000"/>
          </a:xfrm>
        </p:grpSpPr>
        <p:grpSp>
          <p:nvGrpSpPr>
            <p:cNvPr id="233" name=""/>
            <p:cNvGrpSpPr/>
            <p:nvPr/>
          </p:nvGrpSpPr>
          <p:grpSpPr>
            <a:xfrm>
              <a:off x="4484520" y="1888920"/>
              <a:ext cx="4659120" cy="3597120"/>
              <a:chOff x="4484520" y="1888920"/>
              <a:chExt cx="4659120" cy="3597120"/>
            </a:xfrm>
          </p:grpSpPr>
          <p:sp>
            <p:nvSpPr>
              <p:cNvPr id="234" name=""/>
              <p:cNvSpPr/>
              <p:nvPr/>
            </p:nvSpPr>
            <p:spPr>
              <a:xfrm>
                <a:off x="4484520" y="1888920"/>
                <a:ext cx="4659120" cy="3597120"/>
              </a:xfrm>
              <a:prstGeom prst="rect">
                <a:avLst/>
              </a:prstGeom>
              <a:solidFill>
                <a:srgbClr val="c9ddf1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84520" y="3655440"/>
                <a:ext cx="4659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484520" y="2772000"/>
                <a:ext cx="4659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484520" y="4602240"/>
                <a:ext cx="4659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97000" y="1888920"/>
                <a:ext cx="0" cy="35971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994880" y="1888920"/>
                <a:ext cx="0" cy="35971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45760" y="1888920"/>
                <a:ext cx="0" cy="35971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4740120" y="1447920"/>
              <a:ext cx="44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165800" y="1485720"/>
              <a:ext cx="509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01840" y="4856040"/>
              <a:ext cx="3189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38480" y="3971880"/>
              <a:ext cx="446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38480" y="3025800"/>
              <a:ext cx="382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38480" y="2141280"/>
              <a:ext cx="446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13480" y="1485720"/>
              <a:ext cx="525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16320" y="1447920"/>
              <a:ext cx="382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40120" y="214128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37280" y="2141280"/>
              <a:ext cx="703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186400" y="214128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03480" y="3089160"/>
              <a:ext cx="70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52960" y="308916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02080" y="3089160"/>
              <a:ext cx="70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186400" y="308916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03480" y="3971880"/>
              <a:ext cx="70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89240" y="3971880"/>
              <a:ext cx="70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02080" y="3971880"/>
              <a:ext cx="70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250120" y="397188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3480" y="4856040"/>
              <a:ext cx="70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52960" y="485604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65800" y="485604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313480" y="4856040"/>
              <a:ext cx="5745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952960" y="214128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457200" y="1752480"/>
            <a:ext cx="236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50%  (8/16)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3733920"/>
            <a:ext cx="220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50%  (8/16)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571500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25%  (4/16)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2057400" y="1752480"/>
            <a:ext cx="5562720" cy="4343400"/>
            <a:chOff x="2057400" y="1752480"/>
            <a:chExt cx="5562720" cy="4343400"/>
          </a:xfrm>
        </p:grpSpPr>
        <p:sp>
          <p:nvSpPr>
            <p:cNvPr id="269" name=""/>
            <p:cNvSpPr/>
            <p:nvPr/>
          </p:nvSpPr>
          <p:spPr>
            <a:xfrm>
              <a:off x="2057400" y="1752480"/>
              <a:ext cx="5562720" cy="4343400"/>
            </a:xfrm>
            <a:prstGeom prst="rect">
              <a:avLst/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57400" y="3885840"/>
              <a:ext cx="55627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57400" y="2819160"/>
              <a:ext cx="55627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57400" y="5028840"/>
              <a:ext cx="55627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05320" y="1752480"/>
              <a:ext cx="0" cy="4343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48520" y="1752480"/>
              <a:ext cx="0" cy="4343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76920" y="1752480"/>
              <a:ext cx="0" cy="4343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438280" y="1219320"/>
            <a:ext cx="533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57800" y="1265400"/>
            <a:ext cx="609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00200" y="5334120"/>
            <a:ext cx="380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3880" y="4267080"/>
            <a:ext cx="533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23880" y="312408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3880" y="2057400"/>
            <a:ext cx="533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29400" y="1265400"/>
            <a:ext cx="380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121932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62320" y="2057400"/>
            <a:ext cx="8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05520" y="2057400"/>
            <a:ext cx="8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77120" y="2057400"/>
            <a:ext cx="8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38280" y="320040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9880" y="320040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81480" y="320040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77120" y="3200400"/>
            <a:ext cx="8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426708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33920" y="4267080"/>
            <a:ext cx="8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426708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53080" y="426708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533412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9880" y="533412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57800" y="5334120"/>
            <a:ext cx="8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29400" y="5334120"/>
            <a:ext cx="68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9880" y="205740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90920" y="11732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38480" y="1162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4356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24800" y="1243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85880" y="2043000"/>
            <a:ext cx="37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52760" y="3095640"/>
            <a:ext cx="37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90560" y="4233960"/>
            <a:ext cx="37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85880" y="5300640"/>
            <a:ext cx="37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57200" y="12193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ahoma"/>
              </a:rPr>
              <a:t>Child with dimples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4724280"/>
            <a:ext cx="3276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ahoma"/>
              </a:rPr>
              <a:t>Child with dimples      and freckles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2743200"/>
            <a:ext cx="281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ahoma"/>
              </a:rPr>
              <a:t>Child with freckles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4038480" y="1447920"/>
            <a:ext cx="5105160" cy="4140000"/>
            <a:chOff x="4038480" y="1447920"/>
            <a:chExt cx="5105160" cy="4140000"/>
          </a:xfrm>
        </p:grpSpPr>
        <p:grpSp>
          <p:nvGrpSpPr>
            <p:cNvPr id="312" name=""/>
            <p:cNvGrpSpPr/>
            <p:nvPr/>
          </p:nvGrpSpPr>
          <p:grpSpPr>
            <a:xfrm>
              <a:off x="4484520" y="1888920"/>
              <a:ext cx="4659120" cy="3597120"/>
              <a:chOff x="4484520" y="1888920"/>
              <a:chExt cx="4659120" cy="3597120"/>
            </a:xfrm>
          </p:grpSpPr>
          <p:sp>
            <p:nvSpPr>
              <p:cNvPr id="313" name=""/>
              <p:cNvSpPr/>
              <p:nvPr/>
            </p:nvSpPr>
            <p:spPr>
              <a:xfrm>
                <a:off x="4484520" y="1888920"/>
                <a:ext cx="4659120" cy="3597120"/>
              </a:xfrm>
              <a:prstGeom prst="rect">
                <a:avLst/>
              </a:prstGeom>
              <a:solidFill>
                <a:srgbClr val="c9ddf1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484520" y="3655440"/>
                <a:ext cx="4659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484520" y="2772000"/>
                <a:ext cx="4659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484520" y="4602240"/>
                <a:ext cx="4659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697000" y="1888920"/>
                <a:ext cx="0" cy="35971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994880" y="1888920"/>
                <a:ext cx="0" cy="35971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845760" y="1888920"/>
                <a:ext cx="0" cy="35971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4740120" y="1447920"/>
              <a:ext cx="44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165800" y="1485720"/>
              <a:ext cx="509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01840" y="4856040"/>
              <a:ext cx="3189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38480" y="3971880"/>
              <a:ext cx="446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38480" y="3025800"/>
              <a:ext cx="382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38480" y="2141280"/>
              <a:ext cx="446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13480" y="1485720"/>
              <a:ext cx="525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16320" y="1447920"/>
              <a:ext cx="382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40120" y="214128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037280" y="2141280"/>
              <a:ext cx="703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186400" y="214128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803480" y="3089160"/>
              <a:ext cx="70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52960" y="308916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102080" y="3089160"/>
              <a:ext cx="70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86400" y="308916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03480" y="3971880"/>
              <a:ext cx="70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89240" y="3971880"/>
              <a:ext cx="70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02080" y="3971880"/>
              <a:ext cx="70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250120" y="397188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03480" y="4856040"/>
              <a:ext cx="70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952960" y="485604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65800" y="485604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313480" y="4856040"/>
              <a:ext cx="5745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52960" y="214128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57200" y="1752480"/>
            <a:ext cx="236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50%  (8/16)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3733920"/>
            <a:ext cx="220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50%  (8/16)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571500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25%  (4/16)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428760" y="1219320"/>
            <a:ext cx="35049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ahoma"/>
              </a:rPr>
              <a:t>Phenotypic Ratio for freckles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8760" y="3495600"/>
            <a:ext cx="3276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ahoma"/>
              </a:rPr>
              <a:t>Phenotypic Ratio for dimples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038480" y="1447920"/>
            <a:ext cx="5105160" cy="4140000"/>
            <a:chOff x="4038480" y="1447920"/>
            <a:chExt cx="5105160" cy="4140000"/>
          </a:xfrm>
        </p:grpSpPr>
        <p:grpSp>
          <p:nvGrpSpPr>
            <p:cNvPr id="350" name=""/>
            <p:cNvGrpSpPr/>
            <p:nvPr/>
          </p:nvGrpSpPr>
          <p:grpSpPr>
            <a:xfrm>
              <a:off x="4484520" y="1888920"/>
              <a:ext cx="4659120" cy="3597120"/>
              <a:chOff x="4484520" y="1888920"/>
              <a:chExt cx="4659120" cy="3597120"/>
            </a:xfrm>
          </p:grpSpPr>
          <p:sp>
            <p:nvSpPr>
              <p:cNvPr id="351" name=""/>
              <p:cNvSpPr/>
              <p:nvPr/>
            </p:nvSpPr>
            <p:spPr>
              <a:xfrm>
                <a:off x="4484520" y="1888920"/>
                <a:ext cx="4659120" cy="3597120"/>
              </a:xfrm>
              <a:prstGeom prst="rect">
                <a:avLst/>
              </a:prstGeom>
              <a:solidFill>
                <a:srgbClr val="c9ddf1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484520" y="3655440"/>
                <a:ext cx="4659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84520" y="2772000"/>
                <a:ext cx="4659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484520" y="4602240"/>
                <a:ext cx="4659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697000" y="1888920"/>
                <a:ext cx="0" cy="35971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994880" y="1888920"/>
                <a:ext cx="0" cy="35971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845760" y="1888920"/>
                <a:ext cx="0" cy="35971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4740120" y="1447920"/>
              <a:ext cx="44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165800" y="1485720"/>
              <a:ext cx="509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101840" y="4856040"/>
              <a:ext cx="3189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38480" y="3971880"/>
              <a:ext cx="446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38480" y="3025800"/>
              <a:ext cx="382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38480" y="2141280"/>
              <a:ext cx="446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313480" y="1485720"/>
              <a:ext cx="525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16320" y="1447920"/>
              <a:ext cx="382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740120" y="214128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037280" y="2141280"/>
              <a:ext cx="703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186400" y="214128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3480" y="3089160"/>
              <a:ext cx="70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52960" y="308916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102080" y="3089160"/>
              <a:ext cx="70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186400" y="308916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03480" y="3971880"/>
              <a:ext cx="70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89240" y="3971880"/>
              <a:ext cx="70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02080" y="3971880"/>
              <a:ext cx="70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250120" y="397188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03480" y="4856040"/>
              <a:ext cx="70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52960" y="485604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65800" y="485604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13480" y="4856040"/>
              <a:ext cx="5745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52960" y="214128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428760" y="2224080"/>
            <a:ext cx="236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1:1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8760" y="458640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1:1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Are these inherited traits?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15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The color of your eyes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Your height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Your hair color and texture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Your personality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Your musical, athletic, artistic abilities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pic>
        <p:nvPicPr>
          <p:cNvPr id="95" name="franksinatra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1631880" cy="1676520"/>
          </a:xfrm>
          <a:prstGeom prst="rect">
            <a:avLst/>
          </a:prstGeom>
          <a:ln w="0">
            <a:noFill/>
          </a:ln>
        </p:spPr>
      </p:pic>
      <p:pic>
        <p:nvPicPr>
          <p:cNvPr id="96" name="tallvsshort" descr=""/>
          <p:cNvPicPr/>
          <p:nvPr/>
        </p:nvPicPr>
        <p:blipFill>
          <a:blip r:embed="rId2"/>
          <a:stretch/>
        </p:blipFill>
        <p:spPr>
          <a:xfrm>
            <a:off x="2895480" y="1905120"/>
            <a:ext cx="162576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219320" y="1905120"/>
            <a:ext cx="685800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Monohybrid (and Dihybrid)  Practic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b5249"/>
                </a:solidFill>
                <a:latin typeface="Times New Roman"/>
              </a:rPr>
              <a:t>You must do this </a:t>
            </a:r>
            <a:r>
              <a:rPr b="0" lang="en-US" sz="3500" spc="-1" strike="noStrike">
                <a:solidFill>
                  <a:srgbClr val="cc0000"/>
                </a:solidFill>
                <a:latin typeface="Times New Roman"/>
              </a:rPr>
              <a:t>individually</a:t>
            </a:r>
            <a:r>
              <a:rPr b="0" lang="en-US" sz="3500" spc="-1" strike="noStrike">
                <a:solidFill>
                  <a:srgbClr val="5b5249"/>
                </a:solidFill>
                <a:latin typeface="Times New Roman"/>
              </a:rPr>
              <a:t> and turn in for a </a:t>
            </a:r>
            <a:r>
              <a:rPr b="0" lang="en-US" sz="3500" spc="-1" strike="noStrike" u="sng">
                <a:solidFill>
                  <a:srgbClr val="5b5249"/>
                </a:solidFill>
                <a:uFillTx/>
                <a:latin typeface="Times New Roman"/>
              </a:rPr>
              <a:t>daily</a:t>
            </a:r>
            <a:r>
              <a:rPr b="0" lang="en-US" sz="3500" spc="-1" strike="noStrike">
                <a:solidFill>
                  <a:srgbClr val="5b5249"/>
                </a:solidFill>
                <a:latin typeface="Times New Roman"/>
              </a:rPr>
              <a:t> grade </a:t>
            </a:r>
            <a:endParaRPr b="0" lang="en-US" sz="35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Think about this….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My parents have brown eyes, why are mine blue?”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My brother is tall.  Why am I short?”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Why does my sister have blonde hair while mine is brown?”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Those were questions that </a:t>
            </a: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Gregor Mendel</a:t>
            </a: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 tried to answer…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Born in 1822 in Austria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1843 – Studied Theology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1846-Studied Science at the University of Vienna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334120" y="2514600"/>
            <a:ext cx="3276360" cy="4038480"/>
            <a:chOff x="5334120" y="2514600"/>
            <a:chExt cx="3276360" cy="4038480"/>
          </a:xfrm>
        </p:grpSpPr>
        <p:sp>
          <p:nvSpPr>
            <p:cNvPr id="102" name=""/>
            <p:cNvSpPr/>
            <p:nvPr/>
          </p:nvSpPr>
          <p:spPr>
            <a:xfrm>
              <a:off x="5334120" y="2514600"/>
              <a:ext cx="3276360" cy="4038480"/>
            </a:xfrm>
            <a:prstGeom prst="rect">
              <a:avLst/>
            </a:prstGeom>
            <a:solidFill>
              <a:srgbClr val="1f408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103" name="mendel" descr=""/>
            <p:cNvPicPr/>
            <p:nvPr/>
          </p:nvPicPr>
          <p:blipFill>
            <a:blip r:embed="rId1"/>
            <a:stretch/>
          </p:blipFill>
          <p:spPr>
            <a:xfrm>
              <a:off x="5638680" y="2743200"/>
              <a:ext cx="2727360" cy="3504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Mendel’s studies led to: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51460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Homozygous (Pure) Dominant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479840"/>
            <a:ext cx="5639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Homozygous (Pure) Recessive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3489480"/>
            <a:ext cx="487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Heterozygous (Hybrid)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828800"/>
            <a:ext cx="373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5249"/>
                </a:solidFill>
                <a:latin typeface="Times New Roman"/>
              </a:rPr>
              <a:t>Genotype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562720"/>
            <a:ext cx="762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5249"/>
                </a:solidFill>
                <a:latin typeface="Times New Roman"/>
              </a:rPr>
              <a:t>Genotypic Ratio: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25146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HH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3413160"/>
            <a:ext cx="106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Hh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4479840"/>
            <a:ext cx="106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hh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Mendel’s studies led to: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2590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Homozygous (Pure) Dominant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251240"/>
            <a:ext cx="563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Homozygous (Pure) Recessive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413160"/>
            <a:ext cx="487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Heterozygous (Hybrid)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828800"/>
            <a:ext cx="373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5249"/>
                </a:solidFill>
                <a:latin typeface="Times New Roman"/>
              </a:rPr>
              <a:t>Phenotype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5181480"/>
            <a:ext cx="762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5249"/>
                </a:solidFill>
                <a:latin typeface="Times New Roman"/>
              </a:rPr>
              <a:t>Phenotypic Ratio: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259092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Dominant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341316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Dominant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425124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Recessive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PREDICTING HEREDITY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43434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The likelihood that a specific event will occur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Probability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43160" indent="-4431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Probability = </a:t>
            </a:r>
            <a:r>
              <a:rPr b="0" lang="en-US" sz="3200" spc="-1" strike="noStrike" u="sng">
                <a:solidFill>
                  <a:srgbClr val="5b5249"/>
                </a:solidFill>
                <a:uFillTx/>
                <a:latin typeface="Tahoma"/>
              </a:rPr>
              <a:t># of 1 kind of possible outcome</a:t>
            </a:r>
            <a:br>
              <a:rPr sz="3200"/>
            </a:b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                Total number of possible outcomes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43160" indent="-4431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Example:  What is the probability that a tossed coin will be heads?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43160" indent="-4431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½ or 50%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Probability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What is the probability that a couple will have four boys?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½ x ½ x ½ x ½ = 1/16 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What is the probability you will win the lottery?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6/50 x 5/49 x 4/48 x 3/47 x 2/46 x 1/45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16:45:21Z</dcterms:created>
  <dc:creator>Plano ISD</dc:creator>
  <dc:description/>
  <dc:language>en-US</dc:language>
  <cp:lastModifiedBy>Amy Schilling</cp:lastModifiedBy>
  <dcterms:modified xsi:type="dcterms:W3CDTF">2008-01-30T13:56:54Z</dcterms:modified>
  <cp:revision>35</cp:revision>
  <dc:subject/>
  <dc:title>Genetics and Heredity</dc:title>
</cp:coreProperties>
</file>